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2.wmf" ContentType="image/x-wmf"/>
  <Override PartName="/ppt/media/image9.wmf" ContentType="image/x-wmf"/>
  <Override PartName="/ppt/media/image13.wmf" ContentType="image/x-wmf"/>
  <Override PartName="/ppt/media/image2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3.jpeg" ContentType="image/jpeg"/>
  <Override PartName="/ppt/media/image4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A1EB-6300-461F-B420-3513DD126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6607-0C95-4E23-914E-3AB7A42D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7BA6-BF88-47ED-9B93-C8A1030FE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74C3-B951-4715-8CAA-DE395233F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ED66-32D9-46AD-AA8E-9084E25F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0363-4CE2-4E80-9322-C42087FC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0C44-91F6-42D7-B5B4-4F7454E2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CACE-071C-4E53-9F54-6AD82B1A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429C-B3BF-421D-8A03-F3280CCE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6802-3186-4343-8187-1095FE78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0C3B-D91E-4AAC-9326-24B8F86F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841E-332F-4DE2-8924-4C65BEE0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6E19-0F3A-40D5-9F61-36D43D4CA6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llposters.com/GetPoster.asp?APNum=1512179&amp;CID=8B54EB00DC98469A98796EC490A04086&amp;PPID=1&amp;search=23701&amp;f=c&amp;FindID=23701&amp;P=2&amp;PP=7&amp;sortby=PD&amp;cname=Honore+Daumier&amp;SearchID=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Hoellentor.jpg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Realism</a:t>
            </a:r>
            <a:endParaRPr b="0" lang="en-US" sz="8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ior Englis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s. Bloem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mperialism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make more money, Europe started looking for new places to get materials fro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opeans moved into Africa, dividing it into colon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opeans also gained some control in Asia and Ind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at do you think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ing over another country like this is called Imperialism… How do you think it effects the nations involv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19720" y="1600200"/>
            <a:ext cx="4495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form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was also a lot of call for reform, or change, at this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was desired in the facto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women organized together in order to obtain the right to vote. This is called suffrage. However, no women were given the right at this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uccessful Refor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avery was abolished in England in 1833 and in France in 1848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the United States the slaves were freed in 186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free public education was granted to most European nations by the late 1800’s and in all of the American States by 187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 we have reform movements now? Are there any specifically in Kansas C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505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nventions and Breakthrough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icity and the light bulb were invent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machine gun, photography, x-rays, aspirin, and antiseptics were just a few other inven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French chemist named Louis Pasteur discovered that bacteria caused dise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automobile and telephone were invented as well, but they did not have their full impact until later in the centu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3581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an you imagine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you imagine how these inventions changed people’s everyday lives? What were some ways that life would have chang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you think were positive things that happened in this time perio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bout negati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at????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literature that arouse out of this era was called Realism. It dealt with the accurate, or realistic, portrayal of life in litera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lists wrote in a detached manner. They were observing and recording facts. This is different from the emotional and imaginative Roman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tead of having elaborate plots, Realists focused on everyday occurren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cause Realists were writing accurate portrayals of life, their works often did not have happy ending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ustave Courbet’s “The Stone Breaker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4038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o????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sts wrote about the daily struggles and disappointments of ordinary peop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haracters in their writings were often peasants, businessmen, or housew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one, even the upper-class characters were portrayed with faul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ore Daumier P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The Third Class Carriage Giclee Print by Honore Daumi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1295280"/>
            <a:ext cx="47242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ore Ar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15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The Gates of Hell, Musée Rodin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371600"/>
            <a:ext cx="3922560" cy="5181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572000" y="13716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???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iterary movement called Realism started around the  1840’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648320" y="1600200"/>
          <a:ext cx="403848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0200"/>
                    <a:ext cx="403848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572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re???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irst Realist writers were from Europe, especially Fr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ism eventually spread throughout the world and extended into literature and other 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495680" y="1676520"/>
            <a:ext cx="46483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hy?????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hat was going on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 Realist movement was taking place, the world was in a time of change and confu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anyone have any ideas why this was tru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ndustrial Revolu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le the industrial revolution allowed the middle class to get richer, the working class was underpaid and overwork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s were eventually passed to make working conditions better, but conditions were still horrend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495680" y="1523880"/>
            <a:ext cx="4648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ss Prod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gs that used to be made by hand could now be made much faster and cheaper by machi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you think of anything that can be made much faster by a machi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724280" y="1676520"/>
            <a:ext cx="38862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ailroad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s were built across Europe and carried goods from the factories to the c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ould railroads have helped to unite a n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267080" y="1371600"/>
            <a:ext cx="4876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ivil War and Reconstruc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United States went through a Civil War from 1861 until 1865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ar was ended when President Lincoln issued the Emancipation Proclamation freeing the sla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uth was basically destroyed and many newly freed African Americans were trying to find their place 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5840" y="2301840"/>
            <a:ext cx="312120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Development of Nation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onalism, or the belief that people who share a common culture make up a nation, became popul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thnic groups began wanting to be seen as a nation and revolts took plac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ome place, like Germany, this eventually caused dictatorships and world w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nationalism popular n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343400" y="1447920"/>
            <a:ext cx="4800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6T18:53:16Z</dcterms:created>
  <dc:creator>Center School District</dc:creator>
  <dc:description/>
  <dc:language>en-US</dc:language>
  <cp:lastModifiedBy>user</cp:lastModifiedBy>
  <dcterms:modified xsi:type="dcterms:W3CDTF">2007-02-26T19:06:22Z</dcterms:modified>
  <cp:revision>6</cp:revision>
  <dc:subject/>
  <dc:title>Realism</dc:title>
</cp:coreProperties>
</file>